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306-34BD-4367-BB3C-268955B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3EF-AAC5-403C-9994-756E920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FBD-F2EA-413A-AD4B-CD9820D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A36-6D3B-4428-9A00-C52B55DB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2B9-BF61-4809-BA9F-C3FB22EE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077-0F07-407F-B6BF-389E429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188-B014-46B5-B5CB-FB0849F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277-DCCA-427D-B60F-D849FBC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E9B-D4A5-4E0F-A4B7-8F5B2C2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564-FB59-4378-A813-796AE05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5B9-8C2A-46C4-ABE7-D4C5734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58C-E28F-4F57-861C-CE29B16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E79-3228-4C62-80E2-DA27CB26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of math functions, and const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, sin, tan, abs, min, max, log, random, sqrt, pow,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 .PI, 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re with type of variables or literals as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os can only be passed a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ting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instances of class DecimalFormat (supply a desired pattern call method ‘format’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 i = 1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malFormat formatter = new DecimalFormat (“###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Field.setText(formatter.format(i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ives 123 in text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Format (“0000”);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0123// given int   i = 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i = 123456; … (“###,##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123,4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i= 12.34; … (“###.##)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12.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number = 12300000; … (“0.###E0”) Produces 123E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money = 12.34; …(“$###.##”) Produces $12.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t page 211 shows types of data sample values, patterns, formatted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:   # 0 , E $ all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digits or specified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” page 2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s compound interest. User enters integer amount and interest rate, program calculates interest over a period of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“Interest” page 214-2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 “Iteration” loops that search for a solution until found to sufficient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n method page 2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ethod returns the result of the absolute value of parameter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ages 217-218-2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b,c and d input via s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scaled to fit within a panel 200 x 200 pixels ( -5.0 to +5.0)  One unit x or y is 20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alculates x value from x pixel value, y value, the value of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pixel value from the 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flow of ints (how to handel exceptions see chapter 16 for det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ceptions by check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length &gt; 1000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TextField.setText (“value too larg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5:51:55Z</dcterms:created>
  <dc:creator>ITS</dc:creator>
  <dc:description/>
  <dc:language>en-US</dc:language>
  <cp:lastModifiedBy>ITS</cp:lastModifiedBy>
  <dcterms:modified xsi:type="dcterms:W3CDTF">2005-05-03T16:13:31Z</dcterms:modified>
  <cp:revision>3</cp:revision>
  <dc:subject/>
  <dc:title>Calculations Chapter 11</dc:title>
</cp:coreProperties>
</file>